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dt" idx="40"/>
          </p:nvPr>
        </p:nvSpPr>
        <p:spPr>
          <a:xfrm>
            <a:off x="384768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 type="sldNum" idx="42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744325-5724-4454-9A58-1C43203B344B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投影片編號版面配置區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707743-82AA-4EC6-9026-3343F3B07DB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DA3-BF53-43C7-9958-33EBBB98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F94-7E9B-4FF8-A2B9-8608EF9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A3B8B-427E-4F8B-BBFF-F610FB85D8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59913-F9FB-4A21-96BB-7487022D4AF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6381C-FB9C-457E-90C4-26D8AB9129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54F56-F9E4-4EFF-BC59-C8088116F32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9A6DC-C9B6-4F45-AF05-6626DDC036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5E429-9548-4230-8567-BE77ED7D135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E6F01-2415-4F23-B6C6-76849F51E77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05DF0-8AD1-4CA5-B6E7-696381FA990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F4D77-7540-4325-A19C-9206595A996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07BF-A3CC-4275-ABC7-A7BCCA003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746-E3AC-4606-9C5E-FE0B6461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B7261-66CF-43B0-A6F1-3846EF65E72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C2F44-32C1-4663-B1DB-E8B0B4D1B28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54A6D-B7CB-4D09-B3D0-CF2D7083B4F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6CAC-6BCE-45BA-93AC-48C9A30FD90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AD468-E645-44F0-802A-B054673F919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81B7-63E3-4630-B00C-168DB830079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32DD-34D5-4875-B905-1FAF2B4136E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776CE-AC01-428D-9B6E-F0752FD0262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5DF2D-E60A-469F-8816-0C3ECAA6BC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A7F7-99DA-445B-8765-6B1E17FAD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6A8-8D38-444F-96CF-E89371DE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BEF36-4D15-4385-A5BA-6DCB66BB7B6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558770-48CF-4A71-9F10-5857A067DE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47CDD7-C6A6-4DC4-877A-8EDAE9EB78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B1AC44-922C-4276-8F3E-A1AB4F2EC5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2BA22B-1185-49D0-B34F-EFE872950AC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17B23-9CC0-4B17-BC42-28710B0DE01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CFEB88-39F4-4A48-BC6F-1D6047697EA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8DB9A-FC97-470C-B058-EDE6D0034BA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ACD6AB-FA01-4964-89C3-5844D0C50D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93841-87F8-4E01-9C53-B391A644C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5E431-B5A0-4190-B525-231E3AC8167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5334DB-9CA0-4C4D-91ED-A03F04E3FEB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AF87A-DA8C-442B-9159-BDBF0282EB0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E4114F-553E-4086-9F83-5CEAA023B1D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B785A-A783-4FD8-AA43-C5654301DD8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3D10D-1D52-4538-8038-551C125C36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605A8-F1C4-4BD7-98D2-E7D36C7B643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B881F-F962-4744-B984-6807ECBFCFC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C7A6F-76C9-490E-98AE-B8613766555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4BFD1-3C98-42AD-A462-5C43610BC8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48DDF-4ED0-4B10-BBE1-8605EC9B99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8CCC5-CA73-47C3-9F56-F74AEF93ADB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B1788-4664-49AD-BFEB-ECABF7754D1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FD71C-FD4E-46CC-AF13-009FEFBEB4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2B499-08ED-4655-8548-28E9DC11AEF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D7306-83BB-4A1A-B02B-AF5DC56B8D1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789D9-7295-4A62-8819-E782CDDF6A8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CA3A-3EE1-4512-AD10-0EEE02E8626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4384D-3742-492F-BD0C-C1672A3096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62E9-4102-414F-A493-7C7AB532CE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E7188-111B-4D63-9335-6FE11DFC393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C991-1380-4699-9F76-2EADCBC56D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00440-2F09-4EF1-8F8E-B7BE0B478C8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A6A14-F443-4EDA-8920-A93F313501E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9121-DF2C-44FB-A842-752D230F3E5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C0E71-535C-433B-A7D9-1664044396B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E536-F91A-4807-84EA-0265943EA0B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BF2EE-E422-4695-B1BD-490700DB5A8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89861-1E57-4A70-8E91-581F41EAC90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F137A-8B23-43A3-AB37-27EFECF9D8E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6E1EE-930C-4C20-A207-7A15782FFA3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364D42-9CF9-4A4E-B3F6-5C2F0471BE3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8E0024-3542-484A-9752-F13A6A1BC7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7DF5A-AAD9-49F5-A448-C6141BD9599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9FDBEF-9DF5-4CB2-9D83-1FC9E3BAD59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A080D5-84F4-4C5F-871E-A6DB591D0CC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B42DF9-4C5B-4C4F-8C57-2563C2B7BF5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A8C930-4AE3-4193-9B47-398D2DC7773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C8368-FD6F-41A2-BAE1-BAEFFB2CB2D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166A5C-ED82-4B11-B0A0-AF9216D5EBB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BE00C2-62E1-4512-9062-A5671F77335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9A29E3-7252-4A39-942F-74ABA8F44B2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18BC5-25D3-4C58-9847-96437E0263F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F662A-41F2-4802-AF0C-3F3BCB3F57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AB6F9-8940-4DEC-94A3-63936A21064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CE652-9B88-4437-9F33-235DC7BA367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AF859-AB54-42D7-BAE3-04268592742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3D4A2-B21B-4551-AE20-FA235701FD4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46AF6-2066-4815-821F-E02CA6154B7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C5752-A8E3-432C-9534-3292AAC1D17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993EB-8159-4D3E-9208-038A59CBE35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6B934-DBEF-4C2A-A834-A246ECECCE0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5FE07-F1D5-4A63-98C4-464BD8CFA6B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D48B4-9A3E-4576-B7C0-0895C6BEA2E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D64DC-F2CE-4249-BA75-3B1E13D63D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E5347-3272-4C68-A1B9-02630068405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0A634-369A-4A02-80F7-4532D20152F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41B1A-635B-4626-A7BC-1C3CEA3F728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63279-27D5-4169-A497-3E5EE8F58AB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FFE6E-DCBB-432C-9C47-1F8FA7E2197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FA1FF-B3DE-4A55-8CE8-22B67C7B459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EFDC-C49E-47FB-9863-BA573532B18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01FDC-AFAE-4FD7-86C5-2AF6C4C9B82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27750-F99D-4ACB-B447-4EE6FA30114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410E7-6E15-4749-9051-1152E989FC7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89040-FDAC-4AB4-813F-9323EF94B9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FD18D-F6A0-49DA-A90F-A1CCA27D44B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B76B-548C-43A2-9308-1E95984A394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A1FCC-3E49-426C-9447-659D58E9877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5E1AA-6773-4CBB-AC9D-0DB9482F73B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DFD0B0-F5AF-463F-8A2D-8C68DCBCA7E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1810B2-DF5C-45AA-8C33-8E78E013C61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ADD5AA-345B-4678-B17A-F0DC60936E0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B8B9D2-C4AE-4F44-B7EE-CB28715F6FF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4669E9-3188-4B3C-B02A-7EC635A5244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821E67-1600-4019-AC13-ABBE259EFFD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9F9E77-E50B-4A63-93F2-BC12607F1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BD1-FB87-4591-9C26-FBE0E26F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8F855-296E-43FB-9645-7BE275F7634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4FF5BD-1C60-489F-B336-9B3770734D9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44FCC7-8014-4D9B-B08E-859BEF30370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612B78-B655-4659-8602-525BDB4726D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DC3987-AE32-4C20-A441-646FCA73E8D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3AD369-3F00-4F4C-B147-0D58D69CF35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EBC15-9353-4856-822D-57B2C971AD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2B792-6F2F-4647-B79D-05B3670F3EB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AB1E0-12FC-4120-9085-A2E9BC18AE6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81CA03-4FDD-4A35-B221-DB9C0A837DB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411CB-5997-469D-92E7-CA580FC0D0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E536A-3F75-4FE1-836A-6A4C4399B88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6FB8E-20FA-4518-8B1F-D4B76259AD3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6AC28-46C7-4BD6-A759-FD43E2AB2DD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401B1-8B28-43D8-8EDA-41B1A213CA3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E2696-5EF7-461C-9012-8F610E3F677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4C6DD-B8C1-4AEB-8C4C-D99D70D8E77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38A22-FADC-4B46-97A4-6B4F8954A6C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D04A1-F98A-4327-8C06-BD513E642BF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A53A-E8A1-4F5F-AA6E-A83FF8BC595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D28B1-3C21-4A29-9241-27C0921B2BF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42281-C71C-469C-B4E9-E529726A79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EC6B2-7F77-4ADB-BED5-FF65F7D6DD9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F10D6-6F1B-4807-84AB-94A4F08B352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4E578-99E4-43B7-9F88-5C884D44787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FA444-1843-4F3A-8A09-BB5DEF3589E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EE2E0-DE30-4A78-9BDD-CB8F95533A7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BD106-2439-481D-AF96-49EE3DECB8C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BC32A-6442-458F-B67A-1C09BE2FFA5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01A9F-781E-4330-8AD1-124B89D87E0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2D3A-1101-4665-AB04-6BCDA7ED05A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E1759-0CE2-4922-9D69-3186EFC7D84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D2A333-8036-497F-87C0-1B5E51D63E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192B0-9F98-4ADF-86FE-C57FEA345E0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162E3F-243F-4F55-ADEE-EB907474925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09467A-C3BA-44AC-BD46-6AA311A78CE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F47736-2F4B-4630-A5D9-648669251D8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414A42-5B1E-4F1C-BC21-F031EAB7039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9C66A8-6CBE-4FA2-B99C-5AD921DEAC9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A7FEF2-BD27-40DD-997F-5F60241C0EC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512C75-42B3-46A4-96F2-83797EEB707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2AA7C6-036B-4BF2-BB4C-3C698F2D2E6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FA7811-0546-4686-AA96-6D9F8D3B4D9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98464A-E1E9-4D44-9668-4610A1204F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6DCE4-183A-41DB-9580-6764AC818C1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EBC863-72C0-4D76-A21C-07F7B3EA6E5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991F36-A2E7-4F08-84E4-E1594FA72D1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A80885-45D1-474A-A441-AE34C0205D1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D208FD-41AE-4913-9A52-95ADA74EAA2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581B8F-AF12-4A7A-BF63-85650CCE458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4F1B04-928F-459B-A005-F18AB8982C6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0CEB6-E521-4B88-A850-519E6F3FC22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99C632-3B14-4293-85E2-8BD7E5B506B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CC4FDA-67DB-4FA0-AA8D-25CD0300CC7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28ADB-C94A-42A1-8538-3CF7FAE7BC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D7EE6-A360-4581-A0FE-1B9ABD3A20F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F3CCE6-7F56-47D0-84C5-8F37F8B487C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C691A4-DF5B-4C4A-8C20-145968A7B9B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3DD3F-0D21-46CA-A642-9746D47A6A4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3B20F-7A53-4917-AAC3-9BCD2A118F1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A36F1-B431-4125-8E71-0F766A59E43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B7C8-DF87-4AF9-ABC8-946AAC37009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2C40A-6257-4415-BCB8-5CD6971EF88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910E6-BD13-466A-ABE7-99C1B34E67D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2E7BD-32AF-48F9-B2EF-11B77578064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E2120-EB1F-4146-A8F4-61017E6B93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FD8A0-E170-490A-A424-CBDB6CB54FB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3224B-1AD0-459B-91B2-1B68BA7EB66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F3D71-E821-44CA-B4FA-9C466C23CBF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DEE9C-806F-4D12-B369-4352FE25090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31F89-D2F7-4EE3-A001-7BB676A7C50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D635E-ABBE-4684-B300-E6F28E5F525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24CE6-8842-4401-86C0-A41CD224853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E1EE0-3286-4BAD-9598-14FE1C89FBA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1057B-A065-4049-9614-AA9213732F1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217C3-BB77-4C0F-B5B9-CC0B2E693AE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7FD51-F451-4F4D-8E3D-0D33779749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57620-71C9-45F2-B77B-164FF9520A2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C7984-7035-4F12-AF49-330026814D8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66379-A5A2-4CC6-A40C-0B2D1A51883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BB313-7A71-4876-8E23-BF04277A65A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6082D-1420-436D-8DA9-E9A1F623E48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39442-E60C-4E42-95B1-8D2E15A0003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BDB39-E34E-4356-9145-81760FE84F5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D3D44-F5FF-4AD3-B17F-ECA3316F745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4AFE0F-0D0C-463B-9AD6-36940F66D65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3A4C31-A0DF-4C68-9756-357025C531A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7ACB05-F6D2-4D21-AE6D-135E3F655D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0B75C-BFB5-4AFF-92BA-34C74610D6B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78F65F-82F9-43DC-BD7C-09C16A55EC1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FCEE11-9175-47FB-8A0E-A80237D78CA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7E6F44-F3D4-4A76-BD06-12D3BD3E591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007D9F-9F44-48FF-9536-CC2993B72B9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F2BCD7-2379-4DA4-96E4-2006007D903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2F42B1-D362-4A87-AFC4-9BD97E94577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6F3E8-ADD6-4630-A44F-04530F0E9C7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D6A7A5-1B6D-4844-8476-5998D24A9E3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26E5EC-823D-4727-BA45-D06A2B62657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48298-8203-47D3-A090-D1CE962BD4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6015-EDF5-4234-96D9-9363C51EF38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F843C-A9DB-4677-B96E-BA07B08A0DE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45F6D-3AF1-4C25-A42D-A3E9921782A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EA899-DC12-4A6C-A34C-C6B4329F0CD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AC1B9-9099-48FD-852E-9CC23007A46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D520D-ECCC-4986-A6EE-6E7947BB272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1FF65-598E-484F-9916-AF868B39749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E2F63-EBE2-487C-A30D-9AD58F98B15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8E41A-8B2C-410A-A1D0-32BE3C6AE16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8CFE9-C5F2-437C-852A-E63F3D60DAA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124E9-D6EE-41BB-8709-3075A961FD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7D4-9518-48C4-91D4-98895166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20298-B03A-4C5A-BF74-71E9031EA70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8BCC5-F279-41AF-9E26-694DE52C392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FCFC5-D3B5-43E3-AED0-A955BA31576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ED139-8AFB-44EF-BFDB-08B02A3E252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1D2BE-4EBD-4D07-A455-980659DEF93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4D6FC-B0F8-4CBF-8867-422F93609B6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D1DBD-2132-4D43-8237-D42A04F1DE4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08B50-99E9-4401-A029-A7FBE3E9393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0144B-7969-4970-94CA-210E8BEF8A7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DEC51-47A6-4A87-AFCF-ADDF4A03133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5E6FD-FF4A-436C-8E5F-FFF264349F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C75CF-BD36-41D1-B031-A6ADCA5B2A9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C0477-722A-47F5-8EF4-9D9A1F86941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C30EE-28F8-43C6-AEFC-1E0260985A6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D044E-2B79-4235-83AB-E9400FD5275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9FC329-6CE5-4647-BFEE-87B4D2EBD2F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8A11C0-2012-417B-ADFE-CFD2F0CCBF2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60845E-188D-47ED-B6BD-77515CAA91C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D4FAA1-DD08-426D-9FE4-6CF86881B81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53E5AA-5B7E-47EF-A251-155C1D5E0EC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B60BBA-CD3F-4838-97DC-75790A2F83E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FD8DC3-CACC-41D3-A46E-D84E2BFA0D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7ECDA-2AD3-4752-AECE-256CA2CC977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28E39F-7B62-44EB-816E-3B3863B80DD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37E78C-5D6B-44CC-AB53-B686AD9D8DB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D0352A-E036-415C-9F2C-7975A79C7F8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3AA98D-D3C1-4ACF-8F57-E723815DDDD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A5C7B2-DEE5-4A4D-843F-92B19B8D180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B029F-27AF-48B2-99A6-0624DE7A83BE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4C037-6C1B-40E5-9AD0-55E42128F16E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D83EB-A458-480B-9D44-FB96F11DA1F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B7D71-7C05-4842-9782-4F7A9669573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D0195-568D-46D7-95EC-F428C2218B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C7D08-6985-42EF-AF94-FE2C9D25F7A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F2132-B730-4470-AD7B-539818DB3A01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FCAAF-AC29-48F4-86C0-08B8FFF40A39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48B88-C5EB-4F60-B050-5007CF44DD7E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C0A48-F881-4D64-810C-DF8648960DA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5AFC3-8721-46F9-8B4B-A730E3B58B2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6BFEE-0F67-4323-9F54-B4E37B9BB93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81499-D088-44B2-AD1B-20B898C9679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FFBE07-E5F8-4892-BC1E-5A7CECFF1F4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8CDEDB-1B76-4228-AF02-BE402DEC06B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3A97E7-45EC-4100-8067-69D2A3C873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AB365-9EB1-4FA6-BF1E-6CB88DED583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14A8E6-8639-4EDF-9848-6FCEFE8DE69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67281E-643B-4320-A7C7-98CB4F5E4B0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E8BBCF-F194-4197-BD8D-EAE61ECEDE7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A9FCC7-9195-4B83-A431-9D73CB87045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87F30D-50A3-42ED-A0A4-0B03F06FE7E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A77BF5-279D-450B-8E9D-BBB02FE63075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5656D7-23A4-4DAA-AF1A-89A8E183A771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22FDC9-4179-4645-8DD6-7C165F89DF3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5FF25A-91D6-448C-B4E7-9723DE132C92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44E5E2-A7A3-4471-AEF4-B5A6050CAE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3FC8A-9C85-4313-A09B-3BAC8228ED9F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A03870-073A-477B-A8AF-6265DF5E9D7B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008BCB-47C7-4FA6-BE5D-3632FF7F477E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7635DB-23EE-4BB4-96C0-7AFBE8AA9F8D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9EABF1-D44A-4D52-AF1A-3536781D2F9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24CCC1-D165-4DF9-944A-8F0E0F7FA61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443A1B-E2A7-4D9C-B38B-F140739C324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69BB0A-66D4-4C47-BC0A-6C4D3CAF95E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2CE9F5-4390-400D-BF3A-2C717224A9A9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F94A09-4A94-43C2-9E70-2176BC78082F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494F29-220F-41DD-B59B-D1A391BA74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4ED9D-12CC-491A-871D-32BEC76794B7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900855-CCCD-42B3-B979-5B2A8BE14AB8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D6EF7-E059-46E6-8E19-6082C9CC86A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7B739-B34E-4E66-BFA3-51E5AE441A33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33155-BECF-4C0C-9789-D9793A7F5A1F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73346-10E0-4748-8FF1-3AB6BF683CA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4A839-CB60-4CA2-A839-EC292DED5E9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F399B-E29E-40F3-85FB-1DD966D889D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4E356-E40F-4ADC-BAC8-8A7BFFC056DF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66387-41F4-43E6-B096-0219317EE698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817F6-59CA-4075-B438-69CA800727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4773-4451-41E7-9FE8-CA8291745CD7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0D0F7-CA37-4E11-9FF1-88EB735E88B1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9A5E4-1DEA-48FE-BE37-F2E9E20CF269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AC3C5-B6AC-4693-AA21-59840929047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729F2-5621-4A9D-BB74-65678FA8A57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1C1B3-0ABD-444C-8B94-3DCE0ABF83D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547B8-6C90-4BEA-815D-1ED5A81BC90B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673F6-587F-463F-8A3F-607B3FBB50A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003F9-B42B-4461-8C55-D3354825C8D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0E8D7-1E82-43FD-B36E-44F1F681164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E5D2F-501D-4BBA-B0CF-F02261B7FB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47F1-ADBE-451F-B25D-23F53B034423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8CB2B-4E49-4D57-81AD-4CFE13B77996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E36BB-F7C5-4CC3-8C23-1371D280009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17046-CCA1-4D5F-98D3-87A92D56317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CE0C2-4D42-46B9-BEB6-E270EC982C9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5678A-30A5-42E1-9082-03DAFF7E0B36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CDAB98-32A1-4791-960B-1D326669CC8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9ABA36-A6FA-4FED-ACE5-6471C47A2D9E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CF5DBC-C466-4F59-AEE2-D4F3894FCD09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D87FBD-C844-4C58-90BD-5CFF55CD6D5B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211148-DCEA-416B-B5E8-96EC45D816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697E-C115-4778-9E70-49A6B151F1C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EE97F3-6023-4375-9887-BD7CDCDAB27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A94002-36F6-417A-BD08-470B9D28485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462A98-A516-4BFE-A8FB-208F38D1F91B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858DCF-8B80-4143-95AC-7E19D1AC30E5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B07EFC-6CDC-4AEB-8E79-F3641591510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C45244-DD45-4197-B73E-F19E86C6B9B5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C4733C-CE8B-4EAC-9545-2A8495DD2021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B623E-C452-4D3E-93DE-9789B77D30CA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23967-F74F-4512-9814-899699289C51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4FACA-CE4B-4F79-8081-A19DA9273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F61-AB79-4E41-A7F7-EB5D0C4B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0865-B526-427A-90F0-76BF22EE7263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8CE96-9097-4A22-9417-D9A1FD060C3E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27179-1608-4C50-80D6-E71701746AA0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B6A69-F663-4331-B9E8-898A8D08435B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1481C-6BD2-4693-BAEF-9F9FC7F24DE4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AAC54-AB7B-44B0-B7A8-38DCC0DE518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224D3-5B9E-4D39-8CC1-24301623844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EF92A-1A73-420D-8A08-0A789CD23C3D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106FD-D2EF-4603-932A-128602C7905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1C38E-78F7-4D2F-B07F-05D6DEF2D81F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FD0C56-D9AB-41BC-B169-5F3134BC15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43DA-6CBB-44BA-9D46-827EC8E046D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B8AA91-CEF5-4A1F-8418-585FD04DB9C2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5E8C4C-8B64-4206-B28D-2DB8D4DF8FC2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5F4041-B150-4155-BED5-783B61F1F972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19C965-143B-493F-A57F-8A2CCC0364B2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8379C2-9373-4FD2-A1A4-2FEC6DC6F93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B8E283-C378-4AD2-B07D-E52D158625B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C22A67-25D2-40D3-8D7B-DC1826E391DC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800875-1D1B-4C74-B310-3C82F3AE6C9C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48683C-7302-4BB7-928A-99A66806E9A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DAE829-09E9-4E3C-880B-9CDDFCCA81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5056-A1DE-4314-BFCF-D0EE81F7093F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7503E3-7408-4392-87E0-0E96714E62E0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A76F56-29BE-43ED-9E10-A8F3E8494E96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8F3564-5B96-469D-9798-4B43AD2635D1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424776-9BFC-4F75-B9C6-7C914C4C55C3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445C13-06BE-4E89-825A-7E8936E2B5A2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30B80A-C3EC-4015-925E-D7D970D7A931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A5538B-E771-4D80-9701-23C23C90A88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9F98B9-D8A0-4855-ADC4-9B9D8C2B0747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7CA929-0A64-4FD8-866C-DD97FB1DA001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6A6F00-CD13-46F2-A0B8-05A90F847D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206A-5B1A-4CD4-9F3A-889CE0E3C1D2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C7EA80-244B-4C39-B60A-AF9952ABC249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B7BC4A-A6F5-4398-A4BE-825F9C221D0E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46FBB1-3C55-4465-8DE0-44D0104937E7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88182-0286-4578-A7F6-3C21FD55A05D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6DF14-A2FF-4D76-8E50-3E3F09D442BF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B1B9A-8476-4A46-B3D7-6E840EEF7553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95FFF-609A-45C9-8BE4-EE44DBAA97BF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82CFB-B665-4302-9B94-58F008A31C12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DC4D5-CA17-4635-AE05-3CB7BE98782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72CD9-63C8-484E-AB23-E4DA5F8093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F184-3FF2-4879-B9A2-82AD3C5DF758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D6AD3-5E91-48EF-9BA8-3B71DE32095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B47E5-1949-4742-9F3D-58DA5E93836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EDAE1-9648-4D4F-964D-DD8B66E301FA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59D7B-7927-4454-9E91-157164025A78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8C1EF-A647-4B33-ADBB-378BEB799C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5C37-E8A2-4064-BAC9-03E7839E42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87C7-C99E-422A-9EAE-AA4A338B88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6F69-1EED-407B-B455-6DE581D657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DA23-B69C-4EC5-8EB5-CA5756ED9C5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5F2B9-A72E-4DEC-BF10-D4B0FBB06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6BE-A64C-411A-9CBB-DB3D93E2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AE7BB-8D82-477C-B158-B6307A262D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9F0DD-E0B2-44BA-906A-020FF24399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3C8A2-9133-477F-9B0B-8467127274E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801CE-F73B-43FF-93D6-DCEFB9B96A7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93612-90DF-4983-B407-52448CD0FE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1C58EC-FB0C-4061-91CE-5288D12B62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01B2A-3253-4E47-BADD-559B620BB1B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B46F0-A219-4A17-8CB8-6CF770DE01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0454E-8B16-4437-B73A-8C1A3DFAED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2055DD-8DE8-4CDD-9A53-EFCF90F64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EA4-3A8A-4AAD-BE07-08260C7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E76EB-5C27-4A56-A0A0-94EA460BF7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786CB-1CC4-4C6E-A1BA-9B2F06FD229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4FB5B-02BE-48DD-90DA-5839E48CEB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15C48-776E-415C-B6DE-DF36167A58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64937-5FC4-4942-BCF9-8955D2FAF5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73706-2BEF-44A3-B6EF-AE292A0DE9B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A0837-0989-4119-AF22-9B77008CAC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4AF8B-EDEA-4692-A41D-0FD6237117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E476C-76B1-43E0-8336-02779C24340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97BF6-07B4-421C-8852-20FACF0A8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B33-67EE-4DC1-8811-86228E8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0D862-D754-4FF7-BC0E-0D8BBD2CB5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6C531-6CBF-472A-A7DF-26311695AA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7C729-C167-49A8-9D8F-8193377ECFD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3110-07C2-41D2-88A2-FB4CCB5BBAA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BCC7-3041-4286-BF9F-DEB34923ED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A5EF-5CE7-4C38-94F8-AAB2C338E0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0070-5E40-46D7-909F-88B747262F7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93ED-E681-44B4-AE1A-6F5CC32809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D579-46A7-47D0-8DF8-1B239AEF17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BE6E-9090-450E-AB59-115A5BAFD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AD4-4DEF-4FFB-BF2F-AB7E4D0C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AFD4F-A60E-4F77-BB64-3B66A69BC4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056A-D849-45B4-B5B7-2E51937970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5ECA-A047-4363-AAF3-340C040375C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CDAD-0B33-4FB1-A184-87ECFF0CA29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B369-E61A-4EFC-8D77-D01CCF712E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762F8-F08B-4CEF-99A3-4C6F2F19061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698C3-30F4-47C8-8A7E-FFE0DBF1F6E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E54498-06A0-4A9F-9732-B009BD3FC1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935A7-14ED-4597-AB79-9A4D4634EC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22667-BFF4-488A-A5D4-6AA4F7D2F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1A5-BB89-4AE8-BBB7-4E9C494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E4B26-2A99-42C9-98D7-A5FD605BCE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F119F-5085-4ADF-AE0C-62DCD0D282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4F368-367A-4235-96E1-E56B012C0B0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72B87-95F3-4BF3-ACF7-163C06DB49B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BF393-FCEA-4CE3-889A-073A598D59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6B65D-EB99-4A9C-A084-909AB5C62A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19F68-0BD0-46AE-9F51-2333EEA96FE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493E2-CD92-42D0-AB51-A32E76ABDD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25284-479A-4AEF-8B88-F80BA5AF06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5DE64-07F7-4FA8-82E8-621F9DFA1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"/>
          <p:cNvSpPr/>
          <p:nvPr/>
        </p:nvSpPr>
        <p:spPr>
          <a:xfrm>
            <a:off x="609480" y="10969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6280" y="1439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1EA3-F30F-44A6-9680-4BE0B95E7F7C}" type="datetime"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A808-DE0C-4103-A4B0-57BF4F48146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710480" y="5506920"/>
            <a:ext cx="1122480" cy="1351080"/>
            <a:chOff x="7710480" y="5506920"/>
            <a:chExt cx="1122480" cy="1351080"/>
          </a:xfrm>
        </p:grpSpPr>
        <p:pic>
          <p:nvPicPr>
            <p:cNvPr id="7" name="Picture 9" descr="健康署LOGO-OK-01"/>
            <p:cNvPicPr/>
            <p:nvPr/>
          </p:nvPicPr>
          <p:blipFill>
            <a:blip r:embed="rId2"/>
            <a:stretch/>
          </p:blipFill>
          <p:spPr>
            <a:xfrm>
              <a:off x="7710480" y="5506920"/>
              <a:ext cx="112248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文字方塊 1"/>
            <p:cNvSpPr/>
            <p:nvPr/>
          </p:nvSpPr>
          <p:spPr>
            <a:xfrm>
              <a:off x="8506080" y="5580000"/>
              <a:ext cx="28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AE85-BFB2-4F4A-A83F-DC9696F9A5B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7818-7527-485F-BB2D-1513FEAE46B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E867-CA0D-44D4-B30C-09B328BBA02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1724-4840-4AF1-9A1D-BD43084E62A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1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10F0-BE23-4263-87F3-F067887968A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4937-9C96-4C98-956B-F03F7EE1F67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CB43-AFEA-47A9-A495-E06FDCDD298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1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6D99-ED02-4712-87E3-7FE8B3C6E37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687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8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689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sldNum" idx="2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F8FF-92CF-4DD6-A56B-EF8D27096CE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39F-8601-437C-AEA1-B11E1F8AE8C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5FD9B-20E9-4A20-B04E-59206A29E83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2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5BFC-8443-4023-A05A-74F9F8A5332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6AE3-AC15-4C59-A301-5F564BAC4C1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sldNum" idx="2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8F67-66FA-4D79-894E-5AC5340A564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Num" idx="2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5C89-BBED-459B-B80C-365E20D408A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Num" idx="2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39BE-092A-4D71-8E92-CB0D441B6C2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sldNum" idx="2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B81E-016A-49EE-94D4-6D00A5AB09C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sldNum" idx="2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7D56-0F09-440B-9DBF-3CA78CF52AC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sldNum" idx="2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46EB-1F34-488E-90AF-1F4852BC5D0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Num" idx="3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2C10-AC14-4B20-A2F9-7ABD00497C7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1131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1133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sldNum" idx="3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F172-6166-4327-B881-30DD78136CE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7580E-0747-4CB9-939C-FABCC22173D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sldNum" idx="3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7070-2D72-45D8-8B29-E313CD19637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sldNum" idx="3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8BC6-5850-4FF1-9E07-83DE2DDDB06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sldNum" idx="3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6E67-8DCD-4BD1-94FB-A03F8CF1BB8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sldNum" idx="3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BBD6-DF03-4642-92CF-B883DF70424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sldNum" idx="3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8AEA-37BF-4927-AA76-E31ED3EB4B0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sldNum" idx="3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937A-B2B1-4F7E-8B23-FCD750F7879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Num" idx="3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49D-177D-42AE-B96D-F6123478178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sldNum" idx="3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720-C12A-4ED3-861B-F67DCC437EA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8D43C-524F-4825-BC30-E4362883E3A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76BC-B6F3-4F3D-94D5-D6764B2B5E3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926B-9B1E-4E4C-93FF-27E91F2A508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243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245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A593-71E2-44AE-809D-F6F853CF02A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BFE4-E30E-484A-8389-431527BA88C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695D-5C68-4D8E-90C4-811BD124461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-360" y="2865240"/>
            <a:ext cx="734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年地方衛生機關業務考評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保健類指標規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2274480" y="4597200"/>
            <a:ext cx="56912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衛生福利部國民健康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E732-3B92-4624-B4EB-2952EA311ED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D55-E8DD-4915-9FAE-5131CE18B38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"/>
          <p:cNvGraphicFramePr/>
          <p:nvPr/>
        </p:nvGraphicFramePr>
        <p:xfrm>
          <a:off x="93600" y="1197000"/>
          <a:ext cx="8836200" cy="4946760"/>
        </p:xfrm>
        <a:graphic>
          <a:graphicData uri="http://schemas.openxmlformats.org/drawingml/2006/table">
            <a:tbl>
              <a:tblPr/>
              <a:tblGrid>
                <a:gridCol w="2778120"/>
                <a:gridCol w="441360"/>
                <a:gridCol w="2567160"/>
                <a:gridCol w="438120"/>
                <a:gridCol w="261144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1432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302920"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品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疫苗校園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偵測率成長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組織性篩檢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以大腸癌為篩檢重點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校園宣導」指標，提倡國一女生施打子宮頸癌疫苗，免受子宮頸癌威脅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防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健康危害防制之規劃及推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成人嚼檳榔盛行率指標並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2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E333-1C2E-4F06-AA75-501CCD70229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12600" y="1052640"/>
          <a:ext cx="8964720" cy="5194080"/>
        </p:xfrm>
        <a:graphic>
          <a:graphicData uri="http://schemas.openxmlformats.org/drawingml/2006/table">
            <a:tbl>
              <a:tblPr/>
              <a:tblGrid>
                <a:gridCol w="2946600"/>
                <a:gridCol w="654120"/>
                <a:gridCol w="2619360"/>
                <a:gridCol w="653760"/>
                <a:gridCol w="209088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3503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「營造母嬰親善的哺乳環境」中新增「</a:t>
                      </a:r>
                      <a:r>
                        <a:rPr b="0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母乳哺育之醫護人員教育訓練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，以期醫護人員能有效教導婦女增加總母乳哺育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兒童疑似異常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分數級距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C83-871E-454A-A35F-B8D14A19EF1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標題 2"/>
          <p:cNvSpPr/>
          <p:nvPr/>
        </p:nvSpPr>
        <p:spPr>
          <a:xfrm>
            <a:off x="57456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健康好幫手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  -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守護國民  促進健康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內容版面配置區 2"/>
          <p:cNvSpPr/>
          <p:nvPr/>
        </p:nvSpPr>
        <p:spPr>
          <a:xfrm>
            <a:off x="4421160" y="1906560"/>
            <a:ext cx="472284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標楷體"/>
              </a:rPr>
              <a:t>促進健康 </a:t>
            </a:r>
            <a:r>
              <a:rPr b="1" lang="en-US" sz="3200" spc="-1" strike="noStrike">
                <a:solidFill>
                  <a:srgbClr val="cc0000"/>
                </a:solidFill>
                <a:latin typeface="Bauhaus 93"/>
              </a:rPr>
              <a:t>Pro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預防疾病 </a:t>
            </a:r>
            <a:r>
              <a:rPr b="1" lang="en-US" sz="3200" spc="-1" strike="noStrike">
                <a:solidFill>
                  <a:srgbClr val="006600"/>
                </a:solidFill>
                <a:latin typeface="Bauhaus 93"/>
              </a:rPr>
              <a:t>Preven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</a:rPr>
              <a:t>安全防護 </a:t>
            </a:r>
            <a:r>
              <a:rPr b="1" lang="en-US" sz="3200" spc="-1" strike="noStrike">
                <a:solidFill>
                  <a:srgbClr val="000099"/>
                </a:solidFill>
                <a:latin typeface="Bauhaus 93"/>
              </a:rPr>
              <a:t>Prote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</a:rPr>
              <a:t>共同參與 </a:t>
            </a:r>
            <a:r>
              <a:rPr b="1" lang="en-US" sz="3200" spc="-1" strike="noStrike">
                <a:solidFill>
                  <a:srgbClr val="ff0066"/>
                </a:solidFill>
                <a:latin typeface="Bauhaus 93"/>
              </a:rPr>
              <a:t>Particip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Times New Roman"/>
              </a:rPr>
              <a:t>夥伴合作  </a:t>
            </a:r>
            <a:r>
              <a:rPr b="0" lang="en-US" sz="3200" spc="-1" strike="noStrike">
                <a:solidFill>
                  <a:srgbClr val="6600ff"/>
                </a:solidFill>
                <a:latin typeface="Bauhaus 93"/>
              </a:rPr>
              <a:t>Partnersh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群組 4"/>
          <p:cNvGrpSpPr/>
          <p:nvPr/>
        </p:nvGrpSpPr>
        <p:grpSpPr>
          <a:xfrm>
            <a:off x="365040" y="1654200"/>
            <a:ext cx="4413240" cy="4162320"/>
            <a:chOff x="365040" y="1654200"/>
            <a:chExt cx="4413240" cy="4162320"/>
          </a:xfrm>
        </p:grpSpPr>
        <p:pic>
          <p:nvPicPr>
            <p:cNvPr id="1540" name="圖片 16" descr=""/>
            <p:cNvPicPr/>
            <p:nvPr/>
          </p:nvPicPr>
          <p:blipFill>
            <a:blip r:embed="rId1"/>
            <a:stretch/>
          </p:blipFill>
          <p:spPr>
            <a:xfrm>
              <a:off x="365040" y="4989960"/>
              <a:ext cx="4398480" cy="82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文字方塊 1"/>
            <p:cNvSpPr/>
            <p:nvPr/>
          </p:nvSpPr>
          <p:spPr>
            <a:xfrm>
              <a:off x="2517840" y="3666600"/>
              <a:ext cx="2260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9ec105"/>
                  </a:solidFill>
                  <a:latin typeface="Bauhaus 93"/>
                  <a:ea typeface="新細明體"/>
                </a:rPr>
                <a:t>HP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2" name="圖片 3" descr=""/>
            <p:cNvPicPr/>
            <p:nvPr/>
          </p:nvPicPr>
          <p:blipFill>
            <a:blip r:embed="rId2"/>
            <a:stretch/>
          </p:blipFill>
          <p:spPr>
            <a:xfrm>
              <a:off x="994320" y="1654200"/>
              <a:ext cx="15433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090080" y="480600"/>
            <a:ext cx="805356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大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4258-F7D5-457B-BE6C-1A0DCE7C375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455760" y="134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2D1D-791E-41EB-BBB6-5F3F6D72DBF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4356000" y="1413000"/>
          <a:ext cx="4103640" cy="483228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99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健康生活環境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1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老年健康促進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9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癌症篩檢與檳榔健康危害防制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婦幼健康促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430200" y="1413000"/>
          <a:ext cx="3781440" cy="4830480"/>
        </p:xfrm>
        <a:graphic>
          <a:graphicData uri="http://schemas.openxmlformats.org/drawingml/2006/table">
            <a:tbl>
              <a:tblPr/>
              <a:tblGrid>
                <a:gridCol w="3781440"/>
              </a:tblGrid>
              <a:tr h="100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8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菸害防制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1752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A1E9-AA6F-4E30-8735-68C1A8D69B2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文字方塊 6"/>
          <p:cNvSpPr/>
          <p:nvPr/>
        </p:nvSpPr>
        <p:spPr>
          <a:xfrm>
            <a:off x="747720" y="14130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8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年</a:t>
            </a:r>
            <a:r>
              <a:rPr b="0" lang="zh-TW" sz="2800" spc="-1" strike="noStrike">
                <a:solidFill>
                  <a:srgbClr val="c00000"/>
                </a:solidFill>
                <a:latin typeface="Calibri"/>
              </a:rPr>
              <a:t>指標數量及配分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4" name=""/>
          <p:cNvGraphicFramePr/>
          <p:nvPr/>
        </p:nvGraphicFramePr>
        <p:xfrm>
          <a:off x="539640" y="2276640"/>
          <a:ext cx="7777440" cy="1582560"/>
        </p:xfrm>
        <a:graphic>
          <a:graphicData uri="http://schemas.openxmlformats.org/drawingml/2006/table">
            <a:tbl>
              <a:tblPr/>
              <a:tblGrid>
                <a:gridCol w="1656000"/>
                <a:gridCol w="1224000"/>
                <a:gridCol w="936360"/>
                <a:gridCol w="720720"/>
                <a:gridCol w="1440000"/>
                <a:gridCol w="1008000"/>
                <a:gridCol w="79236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97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F17-4DB3-46C5-B864-59165F94CE7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108000" y="1171440"/>
          <a:ext cx="8893080" cy="5281920"/>
        </p:xfrm>
        <a:graphic>
          <a:graphicData uri="http://schemas.openxmlformats.org/drawingml/2006/table">
            <a:tbl>
              <a:tblPr/>
              <a:tblGrid>
                <a:gridCol w="2519280"/>
                <a:gridCol w="649440"/>
                <a:gridCol w="2590560"/>
                <a:gridCol w="649440"/>
                <a:gridCol w="24843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52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吸菸率下降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電子煙吸食率下降目標達成情形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另青少年電子煙的吸食率已逐年快速攀升，期縣市納入未來青少年菸害防制重點工作項目，故增加「青少年電子煙吸食率下降目標達成情形」；未來將視該監測調查規劃情形配合修正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3400"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E2CC-B322-4813-8CEE-58EBE64D8F2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179280" y="1413000"/>
          <a:ext cx="8859960" cy="4743360"/>
        </p:xfrm>
        <a:graphic>
          <a:graphicData uri="http://schemas.openxmlformats.org/drawingml/2006/table">
            <a:tbl>
              <a:tblPr/>
              <a:tblGrid>
                <a:gridCol w="2484720"/>
                <a:gridCol w="755640"/>
                <a:gridCol w="2520720"/>
                <a:gridCol w="792360"/>
                <a:gridCol w="2306520"/>
              </a:tblGrid>
              <a:tr h="369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5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各縣市加強輔導醫療院所提供之戒菸服務，並提升戒菸成功率，故提高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6A2-686D-43A4-9B27-A8B1D4A1071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128520" y="1268280"/>
          <a:ext cx="8702640" cy="5378760"/>
        </p:xfrm>
        <a:graphic>
          <a:graphicData uri="http://schemas.openxmlformats.org/drawingml/2006/table">
            <a:tbl>
              <a:tblPr/>
              <a:tblGrid>
                <a:gridCol w="2435400"/>
                <a:gridCol w="639720"/>
                <a:gridCol w="2305080"/>
                <a:gridCol w="801720"/>
                <a:gridCol w="2520720"/>
              </a:tblGrid>
              <a:tr h="37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4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場所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職場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校園二手菸暴露率（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室內公共場所二手菸暴露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8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刪除「公共場所二手菸暴露率」、「職場二手菸暴露率」，增加「青少年校園二手菸暴露率」、「青少年室內公共場所二手菸暴露率」以監測各縣市無菸環境成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為加強各縣市計畫目標達成情形，提高其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E8DD-65A2-4409-A16B-9DC28D1A520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9200" y="620640"/>
          <a:ext cx="9055440" cy="6118200"/>
        </p:xfrm>
        <a:graphic>
          <a:graphicData uri="http://schemas.openxmlformats.org/drawingml/2006/table">
            <a:tbl>
              <a:tblPr/>
              <a:tblGrid>
                <a:gridCol w="2692440"/>
                <a:gridCol w="507960"/>
                <a:gridCol w="2946600"/>
                <a:gridCol w="436680"/>
                <a:gridCol w="24717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1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成年人及長者身體活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天天五蔬果攝取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運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指標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調整為「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「提升天天五蔬果攝取比率」，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社區環境評估、行動改善計畫及成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設置社區營養衛生教育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「校園周邊健康飲食輔導示範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職場認證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健康識能推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「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圖像推廣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餐飲業者減鹽行動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廣職場參與健康促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推動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圖像推廣計畫」」及「推動餐飲業者減鹽行動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各項指標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6" name="Rectangle 2"/>
          <p:cNvSpPr/>
          <p:nvPr/>
        </p:nvSpPr>
        <p:spPr>
          <a:xfrm>
            <a:off x="324000" y="-10008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投影片編號版面配置區 1"/>
          <p:cNvSpPr/>
          <p:nvPr/>
        </p:nvSpPr>
        <p:spPr>
          <a:xfrm>
            <a:off x="8675640" y="645336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7FEF-6120-4548-8A1E-417791FCC6A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11160" y="260280"/>
          <a:ext cx="9132840" cy="6697800"/>
        </p:xfrm>
        <a:graphic>
          <a:graphicData uri="http://schemas.openxmlformats.org/drawingml/2006/table">
            <a:tbl>
              <a:tblPr/>
              <a:tblGrid>
                <a:gridCol w="2949480"/>
                <a:gridCol w="579600"/>
                <a:gridCol w="3184560"/>
                <a:gridCol w="650880"/>
                <a:gridCol w="176832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老年健康促進相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中老年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及調整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高齡友善社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認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高齡友善社區涵蓋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的認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提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眾對失智症的認知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，以營造失智支持友善環境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尿液微量白蛋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croalbumin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衛生所慢性病防治照護量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民眾對腰圍警戒值認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眼底檢查或眼底彩色攝影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機構推動健康促進服務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高齡友善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成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及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型肝炎篩檢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規劃及推動高血壓防治方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輔導轄區基層診所參與慢性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預防及糖尿病品質照護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為新增「各縣市成人預防保健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肝炎篩檢利用率」、「規劃及推動高血壓防治方案」及「輔導轄區基層診所參與慢性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預防及糖尿病品質照護服務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9" name="Rectangle 2"/>
          <p:cNvSpPr/>
          <p:nvPr/>
        </p:nvSpPr>
        <p:spPr>
          <a:xfrm>
            <a:off x="468360" y="-24300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9:44:09Z</dcterms:created>
  <dc:creator>ST</dc:creator>
  <dc:description/>
  <dc:language>en-US</dc:language>
  <cp:lastModifiedBy>健康服務品質政策辦公室周青慧</cp:lastModifiedBy>
  <cp:lastPrinted>2018-11-19T01:58:33Z</cp:lastPrinted>
  <dcterms:modified xsi:type="dcterms:W3CDTF">2018-11-23T10:17:39Z</dcterms:modified>
  <cp:revision>1966</cp:revision>
  <dc:subject/>
  <dc:title>醫學人文導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